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dt" idx="83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 type="ftr" idx="84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 type="sldNum" idx="85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A3B4-B6DA-4C9C-AA56-E41CA43168F9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3396-FA98-4F84-B102-75C0164ACCA0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CC1F-20F7-437D-9201-A27668D0759D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540F-8513-4C22-AA5B-0678C4720512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49809-6936-405F-86C0-F3467E6F99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6688-26A6-409F-B9B3-FBDC2F50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A9DFCA-BAC3-4978-A635-87233D29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84FFF0-9F2D-400D-8EE1-83A48C51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C4D29C-3A32-45F3-8831-DB42C21B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5DDBF3-D925-48E3-8EDC-272C1891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6E98B2-5768-496C-B391-E845DA75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FF7B42-5595-4BD6-9222-ACC194C3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6DBD9B-CEBA-4CDA-B1C9-F80A1CE1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E3E73B-B34A-43EB-B58D-4FDB2447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BE418E-1182-42AF-AE50-32106A98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76FE34-AE42-458C-BF1E-878CDD7C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524F8-6F27-49C1-9308-27538FB6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B8827A-3CEC-4F95-94A2-5108CC62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4482AC-A847-4857-B217-F9A183A1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F00960-BD1A-4B32-9E16-AD9C95D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C4CC3-496A-4BD7-925B-D8F677EE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A80C31-5377-4109-A551-411498D2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E89E47-E313-45B2-8C67-2E587F56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9E0826-6831-4DB9-BAB6-D7875415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2BC21C-052E-4B44-A385-25C6B1F6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AF54F1-34F9-48B2-9D62-A2178F86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3BCD45-E618-4AD9-8F7A-8B0F5C27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30E20-2A3C-47A0-BE5D-D3F34693ED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226C8E-3612-4518-A768-62FCFB9D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056B1-98AA-4FE6-8F36-43BDBE9E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3F4F7-4605-462D-9773-E6BAE11E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E121B-1075-4CC4-9583-D95048BA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DE5E5-EBF9-47D3-A1F1-61B053A8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D5CD6-F040-4C9A-95C7-82A9A48C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7B7CB-7DDC-4BF7-A16B-4C50C9AA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CA401-F898-49BD-9D81-F3FE0BB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FB8B0-1401-4EFF-9F52-C22EC02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610C6-2481-4EB7-9E7A-5984C417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A0051-BBC2-4030-8CEF-649E2408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2A2AD-1FC1-4F37-8EC9-84CA0D09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96465-974C-4FFB-B950-8D17D68B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9565E-C621-4314-ADB9-4F186C66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83E27-F45E-423D-898E-A905338C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618BF-8D73-4CBF-AFC5-E9022CA4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B7A43-887E-47E2-BC2A-BE7573D8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421F9-A675-4470-AFCA-84B4A9EA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7E941-F96B-4DDE-8CD9-938D3019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78A15-1DC0-4AA7-A49D-954818FB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5514A-2AAB-4BE7-829B-ED3F6322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F7CDF-9873-4C15-9C26-DFAC9AB5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612A2-FFEC-4E81-9FDD-5FCADFE3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2E820-F8C7-403E-8A82-081D8F5B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1228A-81C1-4C4B-9DFD-A4B60655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4D3BE9-894E-43D4-91C8-FB2DFB8F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83637F-4437-414D-9FB4-8EC392B0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7A80A4-4EC5-41F7-B14E-E36E5E60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69E777-9E5D-47B9-8CCB-3D967D46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373D35-D244-47A1-A5CA-EF593AA7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667C1D-4CE5-4180-964A-F8BE82BE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E2B818-1482-4E26-8A12-F85B02D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48B9E0-7858-49B7-B9E4-0DCCF45F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F4599F-E2FE-4DA5-ACF3-5B95185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1DD74C-4BD5-49B8-AE0E-512165F8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4F2C92-86DC-42F5-96BC-D80A237D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B091C7-0499-477A-AD1F-A87D4A70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2929C-8D21-471B-A85F-1D3E83CC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CE237-C350-476C-84A0-1129DAF9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33940-227C-45BD-91DD-1D839D2B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C41CE-E77C-49F9-B1C0-95484C22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40FFD-490A-4D4B-AB78-24763439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779AD-A0A1-4732-A218-78DA60C5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4AFFB-F145-41D7-AC3A-45EEEEB7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D3CE4-A2A5-468C-BD65-9DC4C2C6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AB297-FBD2-41FD-A8F7-F138CB5E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5B26C-CFBE-46DE-BFD1-11FD626E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356FD-199E-43C6-B6D7-49C1CE36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E2E1E-930F-44EE-9AE8-C57228EF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D5A4A3-7708-4FE6-BE51-C808084E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85BAF7-DB91-44CC-8C05-92281E9B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949654-3E84-4A21-99C3-B7E1397F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75105B-BD04-450E-BE3A-BF056688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746A20-48D5-44D6-9465-81A4643C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D15F63-1A41-4EA0-9722-2D36509B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0170C5-D24F-48DC-80C0-C906FC30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964144-7938-4B07-A362-73E19B51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24386E-8DF6-4D80-BCB6-A740759B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153E28-8624-4156-8B89-60F7D91F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5F0C51-59A5-4B0E-B019-48DA4904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3DD831-2602-45AF-B0D6-C3B17CF6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77E0DB-7D53-4E6B-BE71-88CAE77D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758691-4619-453F-BBBE-DD1D43E3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F110CC-3F9B-4CC7-8427-0FDA7C96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36678C-A259-497D-B512-EC3DA812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B057B5-37C0-47FE-984E-A722D6FF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59188F-B4ED-4915-A371-94CA9B05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567A1C-3D0A-4FE0-8E80-57AA363A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FA62BE-C7FE-4255-B407-5AA8E6F4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40B508-A686-4312-963C-F97B470D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7CA7E5-010B-4139-8A9C-ADB7DA40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A927DE-1AC8-4D2F-A357-46923D2A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73F509-0BB6-4477-A35A-22080C52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5DAAAD-4DCE-4695-896F-D6476FB0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06E375-E4E1-40CA-8C70-427A947E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DA511B-3B3B-42F8-8513-7049A8C9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A38BDF-CBF5-4161-A932-6E560142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A9F2A2-F6AF-4CB3-897E-D19763D0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5575ED-77DA-454E-A18D-899B3CAC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917791-9A3B-4214-B9CC-D2602F97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57E8-0611-4703-8562-B9C9E8B5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57C6F1-561F-4188-8C0E-EB13487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09B269-E3E6-4715-82A2-D77113A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282528-9A64-405F-8596-621F8639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83E75E-12F4-45A8-A9B8-24FDC141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F66DC79-62D4-4DB0-8A41-F0597F0A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44E1E8-1E4F-4006-8E76-458FD8A7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280177-AEFF-4EB0-B36A-D70DC8D4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AB1FE3-B368-40DC-BFE9-4B30A93D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D4DEE7-BCDB-4689-B942-0FC2FC88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E4874A-F67C-4D46-B4AB-345FE925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71EF696-99E2-44EF-9C3E-5BF727FB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94B5FE-A63E-45A3-9480-82B8D6E0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C711F1-D567-4898-9582-201EFECB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508AAE-9E2D-48F7-AD95-9C4AD371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897876D-3562-4854-AC1C-164E0E54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8689AD-2E1E-4F81-800F-1610B323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3134F25-8CB0-4871-BED1-19642CEF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201CB3D-6859-453E-B96E-F3AD2E00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1903A6A-87AE-449C-B587-E1E95D43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4C9FBB5-21A7-470B-9D4A-74670A32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CD49329-65E5-4407-A8F0-E1D8FDA6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346EBC-49B3-4B04-81C3-CBD6DEDE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1E3DF9-589B-41AC-A1FD-2EF2EE67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17CC56F-7BBC-4F5B-B5B9-4ED53D66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AD65166-8C2F-4377-9511-3D1A973B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827024-B969-48F4-A1AE-D208CD48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95778-264C-486A-8C19-6B7514D3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283313B-010D-4D01-8DCB-442EE794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E63898C-B012-4C95-93CB-AE29F5D5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A6BBBED-35CC-4140-8909-A0875205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080F7-B3C2-4AD4-BA09-178928BA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444B9E-3A6A-457C-9ABE-D3524E9E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AB55F2-CA03-4AB5-8A1F-E6BCE780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EEDE327-24A1-4DBB-99A3-72E776A9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DDA972-497D-4D28-A64F-EBBBC796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B7CD7BD-9DC2-4736-B282-B7007035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18AA2-D6D7-4475-A5F2-C3CE17FD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FE5EF7-2D8B-4373-886B-3EFDB2BF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EDD3E7-AB4A-4408-BF6D-C290B136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A35E98-D105-4AF8-B3C3-BB542B2C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94346D-EE59-49FE-86CA-4691694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BE1A1F-E6F5-4F4B-8E0E-E49C8718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4592C6-66C7-4F18-80C6-BCAC56A2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E502C8-1347-44CC-B1C6-EE1B0638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A7E338C-E84D-415C-89C8-49FA6E06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EA1F08E-251E-4608-80A0-C43D9956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4FE6AE3-7C60-4366-9858-E53F8C0B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F936A-E64F-4BD9-89E5-368E950B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953A19-F373-4E22-8A3C-BCAF5387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BE5978-ED73-4C93-AB36-B19B8B71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FE8457-E97E-4940-AC3B-6343F6D6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916792-C711-4091-94EB-60A90C3A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90E9C51-BCE9-42B0-B18A-E9AABB14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AEB04E-FB03-45E7-A35E-B48E2D3D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A9F1801-4EAC-4F4D-8C3A-B9D52275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38BA5D-A16A-4698-BFDC-008E31A4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2F936D3-EF49-4928-A334-B4E00B84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401FA4-0020-4208-B5D9-F4C4663B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A5819-B790-42AE-8875-2B40B192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29044A-A0CC-45B8-B094-9FD1E965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56673D-48EA-44E4-A97F-2502D1D4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594D0EF-ECC9-4B38-BF79-801ED188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426A7E-3821-41A4-A07F-48F6C17B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250F59-64C9-4CCD-B927-86398FC5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8817E3-266B-44BE-BF46-D58B0FCC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4D62832-83F6-4983-A42D-F4FC1A7A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D5FD0F-F681-47C7-B84B-39DDCB4B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1AA2491-86F4-45DD-BB85-903963C6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4AD2B3-9287-45D9-B747-524F28AC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FF63-9DD0-49C4-BA52-88245E81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42166-AB00-451A-9201-6F8CC8C7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8CB0ABE-E07A-4AEA-BC4A-22D8847D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661FAD7-2763-4FDA-A106-D5CC9938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31D6953-CA53-4027-B2BC-D8DEB5C6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DF4206A-70B2-4AED-A835-723B9BB9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09880E4-27E0-42C2-93B9-2A63C4A4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CACC8F0-DBE7-485C-A97A-E6EEFF4D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9B808B0-76B0-4B2B-AB59-67386E90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B3082DE-1BA0-47AD-8A9F-6728A1C7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EAD7225-7780-4052-95D0-2DEB6AB3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23863E3-B61A-4817-B904-8684D608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53B55-E11B-414F-8FAF-CFFDCF10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31FB7B0-3881-4A20-B927-7EE189D9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95AC6F8-4601-4D43-8BF9-F89319EA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E6F9D27-BA88-49AC-9E82-D2692971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294288E-86DB-48B4-80C9-967E8486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2340C82-DDF9-4E4E-A766-E7A6AB5C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78965EA-2794-46DD-A31B-C6428E76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ACFC118-A109-44C7-A399-33EDBA1A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AD43F07-1BE3-42D5-A432-8E1D2E37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4C0C61B-3CE1-4B1E-8397-5EEA4196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284EA57-ABC6-497C-A99D-B1D87689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ADEFD-B10A-44AD-BACA-55F2FC8E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2BE6F57-A740-4C52-9DF8-FEFCE3A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9B87AED-DB5E-477D-9FD2-AE94B27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7BEA386-6F9A-4556-9042-5C44BCFE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B2E45D6-2CB1-445E-A3B9-1E3EA8AB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5DF4E1D-0455-4E2C-9A4A-8B519355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71DFE29-39BD-4D68-8655-4B147B84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64F3C05-8A90-4758-92D0-7C182423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F9E21EF-E94A-4276-B2EB-F7B26E2C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0D97D9C-3ED4-45A9-851F-2263DC9E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83F0FFD-AF8C-4AFA-915B-C73C67D9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0DCED-64AD-441F-9B98-A77F93F5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F739A15-61B0-41DD-8D36-EB6AC1B7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09D4211-7502-4FC8-A894-8B1B1235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0403EB1-E1E3-4521-B815-F93B08F3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568E5DF-1B33-4FE6-ADD1-FDA8473C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07EB3DC-0EBE-4A01-BE0A-A5F332DD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EA5859D-B9B1-477F-BB38-DAAAC032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5166F65-6792-4995-8FB9-301643CB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EA6B638-42FD-4A43-BE0E-73936D25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17F41D1-1EB6-4084-A7FA-322496CA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97B1E4F-A845-4DED-89FF-28A5E698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7F717-AE25-4145-883C-1B19B8D9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1B5255E-70D0-46B3-993C-1CAA2DD1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0DC8E89-908F-4E59-9233-85EE4C32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CE41261-ACE5-44ED-A001-53535E9C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C7B422C-04BA-4D8C-BDFA-EB3F36D2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40663C9-3A40-4426-94CF-7C3487EA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ED37EF2-2614-4523-814A-A58DC9A2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248CA77-3704-405B-90EE-063C0BBE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2452CE7-312E-4420-9D43-2EE6F8BF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5B9C536-1C03-4849-89F4-1A059A93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CF358C5-2986-45DE-B59C-61242807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02D1D-A107-46F7-9926-4EB4323B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20A734A-D3C9-4F4A-AA18-948CFF7E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4D371B6-AA81-4466-957F-99FE75C0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CCA02D1-A630-49D4-B5A4-99148A1C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D839B0A-11F2-4A2D-9640-87CA6F27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56061C6-A6E3-4B69-98A4-7BCC5D4E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9C13C90-2FCD-477D-8DB9-DA7C6E59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2335103-C1C2-4F2C-B3E1-66ED86A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0C7923D-BAF9-4966-AACF-F1D9CCD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3AA0ED2-1120-4DBF-9138-EDF04EB9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982F1CE-7631-4B60-BE9E-725EF728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B2678-586A-4249-ABE6-448DAB83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848EA00-64E0-45A9-8DB7-FAB636EF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7CFC656-3E1C-41B6-82EC-1A20A39B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43919A9-46D3-40DB-9E8F-84FC711B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2B4A5C3-3D83-4CB9-9970-DD2A932E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CFDC8FD-D7D5-4ACE-8494-8CF76054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9510EB7-A6AB-4F50-89A0-0A05518E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ACDB6D9-B7F6-4326-88AB-34C13319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111EC4A-0D08-4381-8ED6-DF76B48D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3EA7E5A-2E28-447B-97CA-45ECB49F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9D4A657-9842-4C8A-8BFC-1A28D9F9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F40E3-505A-486A-A37C-D7A581B3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5563C4A-03FB-4900-9B20-8EE7DED2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D44DB2D-8189-4CEB-8D02-1BE68691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B26B782-C5B9-4901-B2C9-5A6CF1B6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634C05D-C43F-4677-81B0-5B7EF897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AF6369F-F3B2-4DB6-99DB-6CBCE888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DD5938A-4E01-47C4-953E-579F304C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477D431-F24A-44DA-9FB8-03DB5D5D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E13A44D-F229-4195-9FB6-A13334BC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62BFE3A-D6E0-460B-9368-796D712F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CD232C5-3052-48CE-ACBD-047C2C4C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37F0A-20B0-4CD8-A775-4FED441F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CE0484D-AF91-4F83-84D8-2223C1C8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3F8881F-DE2B-42B7-84CB-87FE9AF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163979A-A8D6-4C5D-B69D-42D8B279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1C3AAC5-2AFC-4585-944C-2C4E8863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2731765-A4B1-46E0-90E9-D68F21B0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6A7A5F7-4590-4D1E-8084-175838B9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202835A-2BA2-4577-88DA-D89B7AF7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195F1B8-E3DD-4164-9463-12ADB41A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07CF53F-EBCD-41A5-A0F8-BFFE89CD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FE145C3-138B-4CF0-892F-DE0D6892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EEC05-45C9-4131-8474-28F7159D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7943CBB-D224-4DF5-A8AE-AA684283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62EF213-1C94-4193-A17F-48D17856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260C447-F036-4BFC-8495-0076578A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9ED0C12-B307-4128-BA5A-A730D7CB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7D3CE05-7AF3-4449-9D14-23349B8E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BEA0FDD-0ED1-43E4-879B-B3714DD7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F49965-8C4E-4385-B328-C212EFA4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3A22F-6728-4CE3-A09B-B2B9E082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79AD1-76AC-4B41-9256-A6F91316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01348-74C5-4F68-9AE1-E9ACBC30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86157-CB49-44C0-820C-EDEE051E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93ECC-5591-40B0-B1F3-D73EA62A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39133-9BA5-4F81-A26C-BB7348D7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53F1F-2C43-4199-8D12-5A6C1476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FBEE8-44AB-4CB3-9F87-7C75FEA1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DB9CD-3E6F-45CD-8895-0F7AD4BA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AEEFD-1534-489A-A3E9-E0E53E83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3AC43-1B84-450E-A840-F30CE3B9D0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315B-50E5-43BC-A8C9-448C0270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E3DB3-8D90-44E3-95B0-5600C393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BE17EB-B804-40C1-894A-2E0948BD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332C5-4613-46C9-8925-5A0A1630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1CCD9-882A-4195-B231-9DD0958E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0CE9DB-17AD-4980-924A-AA7D1CF3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92F1F6-F09E-4B8D-8EC2-371E4DD5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172E3-8D29-4482-995B-350BB529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57163-3D92-4549-A36C-9BB0DDC2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AC9894-2534-4782-8CA9-72DC2AEA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07D53-A884-464C-BE1C-217F3B6E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BD6A-D544-4355-8ED8-6BBEBAD3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54607C-C245-412D-895D-C16E22B2BA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020665-C9D5-4B83-BF5E-5D83A452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AF6E26-EF3F-43F6-95D5-055FADC8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5D9ADC-BF41-4CD0-B93F-0A6D4E20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F9A0D3-3F5A-4DBC-892B-95554538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C4DFF5-3EBE-437A-9942-3D3C2F83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F4A1C7-7743-4C1A-9F97-54EB9F98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03D47C-71DA-4DD1-BF94-DF1BB15D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D30BD9-E540-475D-A778-23BC314B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D6CABC-7B39-4B67-A040-305F1D39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7CD8-6B92-4811-A8A5-73810A59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072710-A817-4099-B39E-4CD00869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BA8784-8F04-440F-9A3A-5CEA35F9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20BEFB-D39B-4CA5-A2CB-A42D78C3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3724-9C95-46A5-AA0E-DB3B8B29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02609-966F-428E-A1D5-7A360737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BEAD03-2053-4E47-A708-D9E36590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6B9D3-E8E8-42DE-8454-36BE8AAA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0416B1-6B84-4631-89CA-C27F0DBD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CBC77C-0853-4997-9779-0C781D06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D3D1-C98D-4A9B-8AF8-56BD33A8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0B4F4C-6ED1-4746-8F59-66B1E4D4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D17833-E0D2-484C-AFB4-15FB3E2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F2D840-7CEE-41E2-9D12-55682E85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6D2CE7-5998-4D8B-B96E-6DC97CEA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74741-1030-4994-A24C-4543F0E6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8DC3AF-6861-41E2-9A5E-5E7548C4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C21D2A-CB5D-401E-8D63-29DD6200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443E30-72A5-4BFE-8794-1559086F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977F32-24A5-482F-9666-C99A97CA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43739C-1F15-417E-81B8-99C3C215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DCA4-571D-4F91-8823-E325E5ED950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C588-FD39-4C7B-9604-84CFBC13C44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DA89-77C8-4B75-A7C6-212365CCA7C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2C86-78B6-47AE-9371-49FA03D8EF7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5163-57F5-44E8-82EC-B1B1EF2CD8F2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60B8-E6EF-4F73-8EA1-4BAB7D3DE9B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4500-91CF-4915-A28D-A7D1CF81E84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65DC-48DA-4305-96EC-CFB627607AB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61EB-1D37-4BCC-880C-E1ECDCD1BD5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54EC-75FD-48FA-B28C-0818B483621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AA0F-A812-4161-805A-2A79915E900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E39B-E207-4936-B1A5-4D0A5774B55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3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12D8-16B1-403A-A0F3-AB0111007574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3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72C9-D62C-45ED-8596-20D5E67B549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3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B9C8-AA1A-4250-B3A9-328E84CC409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3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6501-6016-4A9B-A97A-A5CD7C4D41D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7799-DE1F-4667-B7DF-5894EB5BC5F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4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4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0CFD-7358-4224-8003-16F4654A7B1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ED66-B8F5-49EC-B632-3A3C8336C4C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4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4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2AA2-F19D-4019-923A-2B7886BAF62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1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13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9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" name="Picture 148" descr="logo small"/>
            <p:cNvPicPr/>
            <p:nvPr/>
          </p:nvPicPr>
          <p:blipFill>
            <a:blip r:embed="rId8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3" name="Picture 23" descr="dd"/>
            <p:cNvPicPr/>
            <p:nvPr/>
          </p:nvPicPr>
          <p:blipFill>
            <a:blip r:embed="rId9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9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9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729A-5F0E-4577-8819-A843673859CA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9CA4-1AB9-40C4-8052-F607DF698B9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120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122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4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2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3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4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5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6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7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8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9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0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1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2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3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4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5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6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7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8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9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0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1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2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3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0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5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6C60-7686-4718-94EB-7FA92B3C165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5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5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90A2-E5D0-4867-9A92-BCF6518087E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5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A8E5-9CF3-42B5-AAF2-8DE0B483281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5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5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B2B4-7642-42AC-88F2-92F2BA85DA8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5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68A6-7B5B-4432-8174-51ABD966B79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5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5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72A8-F30C-4B36-91A4-23F26949D8C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5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CA23-66D0-48E0-AEB5-294830807AD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6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6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8E22-ED36-4386-85F6-9B322D2535D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6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EE63-3970-4F8A-8757-FA7B262C2F9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6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6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DBE0-A937-400B-98EF-E7583D86A48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6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EEAF-A68A-43AD-A361-7CB381A4676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6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6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4CA2-6457-4AE9-B0A4-12EC1CE30BF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6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B2B4-D1DD-4B0F-94FA-83774055250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6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7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8D1B-3860-49A2-BDEE-038C443FD30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04A3-126A-4FC9-AB35-7140C335F33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5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7186-8E0E-4C1B-A6B6-4830C517505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B28D-5740-4069-AF4B-8C7D397A989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3B85-1B7D-4722-9F43-A7B075BF2C2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7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5459-C260-43BA-BE91-8FF124749BB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7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7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FD57-D82B-407D-B77F-331748CCB0E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7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ECB7-A9D7-4992-A6ED-1CDA6CDF462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7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7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04B0-445C-4FF9-8CFE-9064554FF6E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 type="dt" idx="8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EF61-726E-469E-A030-08F90EAD536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 type="ftr" idx="8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 type="sldNum" idx="8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B5D5-D9BC-4489-B187-368E565F327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4132-D0AD-4CDB-843D-A2B3589B37D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DAF7-7BB1-4883-856A-9651B5D61F4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4E06-5287-43B7-A2EF-72215580DDD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6EA5-9C05-408B-A0EB-E6132A2C51A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2FF0-4687-4D5F-A0DA-B40556C655C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C263-FD50-4B0C-B5E6-96392A3EF8E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3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3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C44F-CDEE-407F-B7AD-C9E5F4AAB15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A647-DF08-4D1E-A662-45A3CEAA27F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CB5E-85BB-4779-B829-5B79B0220DF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4725-45D8-4D38-A2E7-8258DE3603E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003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694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695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697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69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3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1704" name="Oval 102" descr=""/>
            <p:cNvPicPr/>
            <p:nvPr/>
          </p:nvPicPr>
          <p:blipFill>
            <a:blip r:embed="rId2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5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6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70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0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711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2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3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4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5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6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7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8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9" name="Oval 118"/>
          <p:cNvGrpSpPr/>
          <p:nvPr/>
        </p:nvGrpSpPr>
        <p:grpSpPr>
          <a:xfrm>
            <a:off x="974880" y="706320"/>
            <a:ext cx="1109520" cy="1109880"/>
            <a:chOff x="974880" y="706320"/>
            <a:chExt cx="1109520" cy="1109880"/>
          </a:xfrm>
        </p:grpSpPr>
        <p:pic>
          <p:nvPicPr>
            <p:cNvPr id="1720" name="Oval 118" descr=""/>
            <p:cNvPicPr/>
            <p:nvPr/>
          </p:nvPicPr>
          <p:blipFill>
            <a:blip r:embed="rId3"/>
            <a:stretch/>
          </p:blipFill>
          <p:spPr>
            <a:xfrm>
              <a:off x="974880" y="706320"/>
              <a:ext cx="1109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>
              <a:off x="1138320" y="870120"/>
              <a:ext cx="784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72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72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3" name="Oval 128"/>
          <p:cNvGrpSpPr/>
          <p:nvPr/>
        </p:nvGrpSpPr>
        <p:grpSpPr>
          <a:xfrm>
            <a:off x="480960" y="3224160"/>
            <a:ext cx="1805040" cy="1817640"/>
            <a:chOff x="480960" y="3224160"/>
            <a:chExt cx="1805040" cy="1817640"/>
          </a:xfrm>
        </p:grpSpPr>
        <p:pic>
          <p:nvPicPr>
            <p:cNvPr id="1734" name="Oval 128" descr=""/>
            <p:cNvPicPr/>
            <p:nvPr/>
          </p:nvPicPr>
          <p:blipFill>
            <a:blip r:embed="rId4"/>
            <a:stretch/>
          </p:blipFill>
          <p:spPr>
            <a:xfrm>
              <a:off x="480960" y="3224160"/>
              <a:ext cx="18050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746280" y="3492360"/>
              <a:ext cx="127476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6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737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8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9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0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74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7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1748" name="Oval 138" descr=""/>
            <p:cNvPicPr/>
            <p:nvPr/>
          </p:nvPicPr>
          <p:blipFill>
            <a:blip r:embed="rId5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50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75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54" name="Date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F0B5-06E5-4EC7-B8AF-7AE641600EB7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5" name="Slide Number Placeholder 4"/>
          <p:cNvSpPr/>
          <p:nvPr/>
        </p:nvSpPr>
        <p:spPr>
          <a:xfrm>
            <a:off x="7196040" y="6553080"/>
            <a:ext cx="1650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39A8-8E04-487C-B7CD-B4EDF6E7E6A2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6" name="Rectangle 59"/>
          <p:cNvSpPr/>
          <p:nvPr/>
        </p:nvSpPr>
        <p:spPr>
          <a:xfrm>
            <a:off x="3032280" y="1084320"/>
            <a:ext cx="6173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</a:rPr>
              <a:t>CLARIFICATION  MEETING: QM58 CATEGORY 4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TENDER NO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ce planning and interior design consultants at MWP, EAL And ERIC Building in Rosherville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DATE: 2022/09/16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725b"/>
                </a:solidFill>
                <a:latin typeface="Arial"/>
              </a:rPr>
              <a:t>Bongi Tshabalala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107640" y="1125000"/>
            <a:ext cx="870732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py  of the Category 4 Quality requirement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ategory4 Quality Requirement - Explanat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ion of : 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A1 Method Statement and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Templates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: A1 Method Statement and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9EE9-8CA9-4809-AAB4-C81094B866B3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6E96-AC3F-415F-89CF-9F93F9F47AA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 of  Quality Requiremen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2" name="Slide Number Placeholder 3"/>
          <p:cNvSpPr/>
          <p:nvPr/>
        </p:nvSpPr>
        <p:spPr>
          <a:xfrm>
            <a:off x="3132000" y="6453360"/>
            <a:ext cx="2880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7FC1-CE40-4AA2-97E6-EE07C200548F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63" name="Picture 5" descr=""/>
          <p:cNvPicPr/>
          <p:nvPr/>
        </p:nvPicPr>
        <p:blipFill>
          <a:blip r:embed="rId1"/>
          <a:stretch/>
        </p:blipFill>
        <p:spPr>
          <a:xfrm>
            <a:off x="217440" y="1341360"/>
            <a:ext cx="824220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01B9-D66D-41D4-8DA4-49B0803FADF7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5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B91F-2AEF-4296-B8FF-53482762B889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Out  standing Quality Requirement  - Category 4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7" name="Rectangle 2"/>
          <p:cNvSpPr/>
          <p:nvPr/>
        </p:nvSpPr>
        <p:spPr>
          <a:xfrm>
            <a:off x="30240" y="1011240"/>
            <a:ext cx="87850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A: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1  Quality Method statement based on scope. -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NB  Use   Eskom Quality Method  Template as a guide.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(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1" lang="en-GB" sz="1400" spc="-1" strike="noStrike">
                <a:solidFill>
                  <a:srgbClr val="003896"/>
                </a:solidFill>
                <a:latin typeface="Arial"/>
                <a:ea typeface="Times New Roman"/>
              </a:rPr>
              <a:t>240-126469599: </a:t>
            </a:r>
            <a:r>
              <a:rPr b="1" lang="en-GB" sz="1400" spc="-1" strike="noStrike">
                <a:solidFill>
                  <a:srgbClr val="003896"/>
                </a:solidFill>
                <a:latin typeface="Arial"/>
                <a:ea typeface="Calibri"/>
              </a:rPr>
              <a:t>Method Statement Template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2 Quality Polic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Approved by top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management.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</a:rPr>
              <a:t>Commitment to: meet customer requirements / expectations; continual improvement; satisfying all applicable requirements including statutory requirements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A.3 Quality Objectives (KPAs/KPIs)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Approved by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top management.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SMART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B: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B.1 Documented information for defined roles, responsibilities and authorities 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Organization chart 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/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Organogram and  Responsibility Matrix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(must include but not limited to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quality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management function/role) (Clause 5.3 of ISO 9001:2015)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B.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Documented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information for Control of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Externally Provided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Processes, Products and Services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Describ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how you  ensure that work completed b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Calibri"/>
              </a:rPr>
              <a:t>external parties ( Sub-Contractor, Suppliers, Consultants, etc)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omply with the requirements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Must include criteria for evaluation, selection, monitoring of performance, and re-evaluation of external providers (Clause 8.4 of ISO 9001:2015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2" marL="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SECTION C: </a:t>
            </a:r>
            <a:r>
              <a:rPr b="1" lang="en-ZA" sz="1400" spc="-1" strike="noStrike">
                <a:solidFill>
                  <a:srgbClr val="ff0000"/>
                </a:solidFill>
                <a:latin typeface="Arial"/>
                <a:ea typeface="Calibri"/>
              </a:rPr>
              <a:t> To Complete and Sign </a:t>
            </a:r>
            <a:r>
              <a:rPr b="1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Form A 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 A1: Method Statemen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69" name=""/>
          <p:cNvGraphicFramePr/>
          <p:nvPr/>
        </p:nvGraphicFramePr>
        <p:xfrm>
          <a:off x="179280" y="1052640"/>
          <a:ext cx="8425080" cy="5499000"/>
        </p:xfrm>
        <a:graphic>
          <a:graphicData uri="http://schemas.openxmlformats.org/drawingml/2006/table">
            <a:tbl>
              <a:tblPr/>
              <a:tblGrid>
                <a:gridCol w="3240360"/>
                <a:gridCol w="1728720"/>
                <a:gridCol w="936360"/>
                <a:gridCol w="638280"/>
                <a:gridCol w="297000"/>
                <a:gridCol w="720720"/>
                <a:gridCol w="863640"/>
              </a:tblGrid>
              <a:tr h="526680">
                <a:tc rowSpan="4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statement  Title </a:t>
                      </a: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( Title as per tender/RFQ tit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ll Name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( Supplier Representative Details 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iginated b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ed b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 applic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d by: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if applic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ignation ( of the compiler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 No ( of the compiler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ent </a:t>
                      </a: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(Division/Operating/ Business Unit as per tender RFQ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nder /RFQ Number/ Contract Number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Detailed Description (type in the information required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 Document/ Procedur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/        Dept./  Discipline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02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ope of work as described in the contract </a:t>
                      </a: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document/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er/ tender 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Outline the scope of work as detailed in the Works Information of the NEC document/ RFQ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 Narrow"/>
                          <a:ea typeface="Times New Roman"/>
                        </a:rPr>
                        <a:t>Note the relevant document ref number ( if available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 Narrow"/>
                          <a:ea typeface="Times New Roman"/>
                        </a:rPr>
                        <a:t>Relevant discipline (if any)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ctives/ Outputs / contract objectives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List 2-3 objectives  (SMART) in relation to the SOW outputs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ustomer Focus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The primary focus of quality management is to meet customer requirements and to strive to exceed customer expectations. How are customer needs identified, and effectively communicated to affected personnel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How are customer needs identified, and effectively communicated to affected personnel in the organisation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mpetency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empowering and engaging people throughout the organization to enhance its capability to create value. What Human Resources, training and authority are required for delivering this SOW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Provide details of skills/ competencies and training required to deliver the tender/order Scope of work?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 u="sng">
                          <a:solidFill>
                            <a:srgbClr val="003896"/>
                          </a:solidFill>
                          <a:uFillTx/>
                          <a:latin typeface="Arial"/>
                          <a:ea typeface="Times New Roman"/>
                        </a:rPr>
                        <a:t>Infrastructure:</a:t>
                      </a:r>
                      <a:r>
                        <a:rPr b="0" lang="en-GB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PPE required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PPE that is required in executing  the scope of work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50920"/>
                          <a:tab algn="l" pos="457200"/>
                          <a:tab algn="l" pos="574560"/>
                          <a:tab algn="l" pos="826920"/>
                          <a:tab algn="l" pos="1332000"/>
                          <a:tab algn="l" pos="1582560"/>
                          <a:tab algn="l" pos="1835280"/>
                          <a:tab algn="l" pos="2087640"/>
                          <a:tab algn="l" pos="2340000"/>
                          <a:tab algn="l" pos="2590920"/>
                          <a:tab algn="l" pos="28432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F654-E0DD-4051-9EFD-F8DCAF6526AC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883C-2EAC-4DD8-87F4-7EAC93C90B5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2" name="TextBox 2"/>
          <p:cNvSpPr/>
          <p:nvPr/>
        </p:nvSpPr>
        <p:spPr>
          <a:xfrm rot="19546800">
            <a:off x="2463120" y="3479760"/>
            <a:ext cx="70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 be Completed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BF86-06E6-443D-A792-4E690D7742F6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02CF-449D-408C-8963-BBF431961C0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75" name="Picture 7" descr=""/>
          <p:cNvPicPr/>
          <p:nvPr/>
        </p:nvPicPr>
        <p:blipFill>
          <a:blip r:embed="rId1"/>
          <a:srcRect l="36946" t="32564" r="35349" b="14710"/>
          <a:stretch/>
        </p:blipFill>
        <p:spPr>
          <a:xfrm>
            <a:off x="1652760" y="1125360"/>
            <a:ext cx="5079960" cy="5661360"/>
          </a:xfrm>
          <a:prstGeom prst="rect">
            <a:avLst/>
          </a:prstGeom>
          <a:ln w="0">
            <a:noFill/>
          </a:ln>
        </p:spPr>
      </p:pic>
      <p:sp>
        <p:nvSpPr>
          <p:cNvPr id="1776" name="TextBox 1"/>
          <p:cNvSpPr/>
          <p:nvPr/>
        </p:nvSpPr>
        <p:spPr>
          <a:xfrm>
            <a:off x="2735280" y="107964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7" name="TextBox 1"/>
          <p:cNvSpPr/>
          <p:nvPr/>
        </p:nvSpPr>
        <p:spPr>
          <a:xfrm>
            <a:off x="2987640" y="633096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and sign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E Form A completion and signing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AFCB-094A-4AA4-8D34-02862053EBB3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168E-4A24-4598-A965-6936257E42F1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81" name=""/>
          <p:cNvGraphicFramePr/>
          <p:nvPr/>
        </p:nvGraphicFramePr>
        <p:xfrm>
          <a:off x="469800" y="1268280"/>
          <a:ext cx="7458120" cy="3816360"/>
        </p:xfrm>
        <a:graphic>
          <a:graphicData uri="http://schemas.openxmlformats.org/drawingml/2006/table">
            <a:tbl>
              <a:tblPr/>
              <a:tblGrid>
                <a:gridCol w="5821560"/>
                <a:gridCol w="16365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lates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achments 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88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Quality Requirements / Evaluation Criteria – category 4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 Portal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A.1: Method Statement 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: Form A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 Portal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</a:tbl>
          </a:graphicData>
        </a:graphic>
      </p:graphicFrame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. Template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783" name="Object 3"/>
          <p:cNvGraphicFramePr/>
          <p:nvPr/>
        </p:nvGraphicFramePr>
        <p:xfrm>
          <a:off x="6681960" y="3357720"/>
          <a:ext cx="91440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960" y="3357720"/>
                    <a:ext cx="9144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BAF7-65D0-46D8-BC29-A8FEF06EFD65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7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CF43-E0E1-4BC8-80AB-59104AFE6D6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88" name="Picture 5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16872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engelight</dc:creator>
  <dc:description/>
  <dc:language>en-US</dc:language>
  <cp:lastModifiedBy>Bongi Tshabalala</cp:lastModifiedBy>
  <cp:lastPrinted>2019-02-20T13:05:04Z</cp:lastPrinted>
  <dcterms:modified xsi:type="dcterms:W3CDTF">2022-09-19T10:58:40Z</dcterms:modified>
  <cp:revision>944</cp:revision>
  <dc:subject/>
  <dc:title>Slide 1</dc:title>
</cp:coreProperties>
</file>